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4F6-3973-4E20-BD6F-5D80758E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D6B2-4976-4901-9354-AFDD330A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A32-5F5C-4AA1-BCC5-7E1B5CC1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778-2216-4DC0-9AC8-17857416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DAE0-B699-46CB-B819-19903BBC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C3A-F0D2-4869-BBBD-C02969B8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57A-638E-4858-AC8A-C8BF0153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0800-85CB-4F63-9959-0FED3EAC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FF7-4C5C-4D78-AD79-7B2D6338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97A-29EF-44E5-B5B3-06F2A72D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E9E-E9AA-456C-8502-9B9AF24C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921-4B7E-4430-8C92-22BA6F87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DFAB5-42C7-4F60-BC21-246F2A3780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1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1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2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2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3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3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4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4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5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5%20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6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6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179280"/>
            <a:ext cx="611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10:01:07Z</dcterms:created>
  <dc:creator/>
  <dc:description/>
  <dc:language>en-US</dc:language>
  <cp:lastModifiedBy/>
  <dcterms:modified xsi:type="dcterms:W3CDTF">2014-03-22T10:34:14Z</dcterms:modified>
  <cp:revision>14</cp:revision>
  <dc:subject/>
  <dc:title/>
</cp:coreProperties>
</file>